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5F5-739E-411D-8F06-8FB6DA6B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DFC-60C4-488F-BC76-175C4231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E43-97B6-4B16-A20E-8AACED14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563-946F-41DB-90FA-3276781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7404-E447-42D4-A757-7D035803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5F27-FE30-452C-8689-A7C90349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0555-0B7C-44D6-AACD-A7C10FD3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F1CD-3C6A-48ED-AA68-CBFC57F6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EDBB-128F-4803-AB59-9AA4AA02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AD20-A179-479E-A819-323ED1F5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3051-1182-454C-9879-9F7220C9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5FF-550C-4FC0-A5D5-C80CFBE9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C090-AD6D-41FE-9E03-E246864B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5587-C8BF-41BC-9142-B34C6E69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350E-B6A9-4330-978C-1308C993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B7CA-7257-4AEF-8A2C-E6DB04C7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95F-6EE4-4B77-ABDD-3AB6CF31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63D-DA10-4437-99A1-A90180D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87D-0EF7-4906-9F01-4ADFE503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C01-4ACD-4F37-B0C3-4C4E5AFF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664-04FB-4323-A816-FDDE1912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573-BE2B-40B9-9171-3DD2254C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995-D09A-448D-BD84-5D5D22E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C9A-6676-48C0-A3FC-26754AE2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tudie o možnostech využití Internetu pro prezentaci </a:t>
            </a:r>
            <a:br>
              <a:rPr sz="4400"/>
            </a:b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hl.m. Prah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, 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etr Kvasnička, Matěj Pr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íl stud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ůvody výběr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vro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erlin, Vídeň, Helsinky, Kodaň, Londýn, Paříž, Lyon, Lisabon, Řím, Stockholm, Os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ojené stá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formace pro obyvatele města, turisty, podnikatele, studenty,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á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nejrůznější institu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jištěné nedostat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eho se vyvarov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ednotnost strá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unkčnost služe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0-11-03T11:43:59Z</dcterms:modified>
  <cp:revision>6</cp:revision>
  <dc:subject/>
  <dc:title>Studie o možnostech využití Internetu pro prezentaci hl.m. Prahy</dc:title>
</cp:coreProperties>
</file>